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26C-F750-4536-A5EF-48FE0B25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0C7-5A4A-452D-877A-2AFAE2F1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6C1-775C-4DCF-B908-2B050904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248-BB23-4A87-9D8A-20932F7E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C79-ABC8-403F-A8CA-5924D98A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C1D-5A99-4653-BE62-537EDFFD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5A3-0685-4F8C-9B49-1AE7C54D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0A1-0BA0-48CE-AB26-ADEF4417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9C9-4E62-40AC-B443-13978B63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5DA-50CE-4986-B666-4A50AB3A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C31-56B9-4FE5-B8D8-198781B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58D-736E-4EB1-850C-F12D3731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C890-429A-485F-9A00-D66FBF515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mas@Nanç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Ana…&amp; JE Campag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9/1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se de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polarisations du plan focal du Radiotélescope de Nançay équipées par l’électronique BAO-Radio [1250-1500] MHz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tests en Juillet 2010: UGC4358 &amp; 3C227/3C28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emps dédié: 60h 1</a:t>
            </a:r>
            <a:r>
              <a:rPr b="0" lang="fr-FR" sz="27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 semestre 2011 sur, Abell1205, Abell2240, Abell85. Opérationnel depuis avril 201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Transfert des données sous Irod @ CCIN2P3: </a:t>
            </a: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75To HP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nalyse en cours semi-automatique: calibration, nettoyage de bande, spectres ON-OFF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ff0000"/>
                </a:solidFill>
                <a:latin typeface="Calibri"/>
              </a:rPr>
              <a:t>But: suppression RFI, mesure HI Abell85, sensibilité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nalyse temps-fr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Image 1" descr=""/>
          <p:cNvPicPr/>
          <p:nvPr/>
        </p:nvPicPr>
        <p:blipFill>
          <a:blip r:embed="rId1"/>
          <a:srcRect l="29397" t="3249" r="7032" b="3388"/>
          <a:stretch/>
        </p:blipFill>
        <p:spPr>
          <a:xfrm>
            <a:off x="2484360" y="1557360"/>
            <a:ext cx="1800360" cy="490212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4"/>
          <p:cNvSpPr/>
          <p:nvPr/>
        </p:nvSpPr>
        <p:spPr>
          <a:xfrm>
            <a:off x="4842720" y="234936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ux d’acquisition 8~10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50MHz de largeur de b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Bin de ~30kHz (FFT au v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165880" cy="400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0" y="1916280"/>
            <a:ext cx="43164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811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4"/>
          <p:cNvSpPr/>
          <p:nvPr/>
        </p:nvSpPr>
        <p:spPr>
          <a:xfrm>
            <a:off x="4519800" y="981000"/>
            <a:ext cx="36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: running over 105 sets of 25000 pa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small set just for demon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"/>
          <p:cNvSpPr/>
          <p:nvPr/>
        </p:nvSpPr>
        <p:spPr>
          <a:xfrm>
            <a:off x="1857960" y="1916280"/>
            <a:ext cx="53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NO RFI: Mean[r_i] = 0 and stdDev[r_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7"/>
          <p:cNvCxnSpPr/>
          <p:nvPr/>
        </p:nvCxnSpPr>
        <p:spPr>
          <a:xfrm flipH="1">
            <a:off x="3276000" y="2349360"/>
            <a:ext cx="14364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Connecteur droit avec flèche 8"/>
          <p:cNvCxnSpPr/>
          <p:nvPr/>
        </p:nvCxnSpPr>
        <p:spPr>
          <a:xfrm>
            <a:off x="6227640" y="2349360"/>
            <a:ext cx="216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ZoneTexte 12"/>
          <p:cNvSpPr/>
          <p:nvPr/>
        </p:nvSpPr>
        <p:spPr>
          <a:xfrm>
            <a:off x="4532400" y="638172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lot with the median filtering coming so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3"/>
          <p:cNvSpPr/>
          <p:nvPr/>
        </p:nvSpPr>
        <p:spPr>
          <a:xfrm>
            <a:off x="482760" y="63817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h 0 (1) : blue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8250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62120" y="480960"/>
            <a:ext cx="58197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igma evolution in the protected freq. zone after 100 cy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5508720" cy="55166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4"/>
          <p:cNvSpPr/>
          <p:nvPr/>
        </p:nvSpPr>
        <p:spPr>
          <a:xfrm>
            <a:off x="6312960" y="314172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th channel follow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/sqrt(time) l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340000" y="96840"/>
            <a:ext cx="6619680" cy="657216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16200" y="3068640"/>
            <a:ext cx="29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 frequency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nly median filtering o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quets in 25600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290600" y="76320"/>
            <a:ext cx="6562800" cy="670536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2"/>
          <p:cNvSpPr/>
          <p:nvPr/>
        </p:nvSpPr>
        <p:spPr>
          <a:xfrm>
            <a:off x="3207240" y="2276640"/>
            <a:ext cx="1837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alactic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ançay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[1400-1427]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4:09:40Z</dcterms:created>
  <dc:creator>J.E CAMPAGNE</dc:creator>
  <dc:description/>
  <dc:language>en-US</dc:language>
  <cp:lastModifiedBy>J.E CAMPAGNE</cp:lastModifiedBy>
  <dcterms:modified xsi:type="dcterms:W3CDTF">2011-11-08T15:46:18Z</dcterms:modified>
  <cp:revision>12</cp:revision>
  <dc:subject/>
  <dc:title>Diapositive 1</dc:title>
</cp:coreProperties>
</file>